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465508"/>
        <c:axId val="36539811"/>
      </c:barChart>
      <c:catAx>
        <c:axId val="574655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39811"/>
        <c:crosses val="autoZero"/>
        <c:auto val="1"/>
        <c:lblAlgn val="ctr"/>
        <c:lblOffset val="100"/>
        <c:noMultiLvlLbl val="0"/>
      </c:catAx>
      <c:valAx>
        <c:axId val="365398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4655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262E-084A-4061-A5DA-54D77A360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788B-A8F0-467B-AC76-4904A355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23E5-CFB0-4494-B47E-9E42ABB65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C236-B709-40E8-95E2-A7485127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1CAE-E0BF-4DE1-8C2D-2FC5E06E0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D72E-8598-4CAD-A4CB-C3908002D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6409-78FC-4624-A8EC-DE95FE1A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A2D4-FE0E-434B-9E5A-EE9F8AAA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96B6-0C42-4B6A-9D6E-056BB504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1FC5-A53C-43CB-A7AB-9F03614C4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3141-863A-4506-8D3C-86756FC1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2A98-841E-4F6C-927D-58DBD12E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445F3B-4DC8-4F08-9F9A-B4ED29FAD8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