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5206338"/>
        <c:axId val="73378476"/>
      </c:barChart>
      <c:catAx>
        <c:axId val="8520633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378476"/>
        <c:crosses val="autoZero"/>
        <c:auto val="1"/>
        <c:lblAlgn val="ctr"/>
        <c:lblOffset val="100"/>
        <c:noMultiLvlLbl val="0"/>
      </c:catAx>
      <c:valAx>
        <c:axId val="7337847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20633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DBEFC-133B-4A62-99F7-C4A4B60D3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ECD02-E56F-410D-916B-0520440F4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21A78-150B-41E6-9D93-2C02BAE62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B4AA9-246D-4B65-8D02-7E5FA37C4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029A2-9C27-4346-A4EA-C70774393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FCA85-6E11-4340-AFC4-714BCD0EA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38C77-3685-49F9-BD5E-F7BD879A2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A3072-EDCD-420A-8614-1C7AEAD7C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8B10F-42AF-4E9A-81DF-1EE8FB284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2A0DD-6F56-4F86-9546-676EC5A4A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A29C8-4B08-4837-8652-F0875E330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4E152-556D-4AFF-BF79-34F30D8EC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EEB367-DB08-4140-BAA7-B8137565884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