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4329"/>
        <c:axId val="86912536"/>
      </c:barChart>
      <c:catAx>
        <c:axId val="5904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2536"/>
        <c:crosses val="autoZero"/>
        <c:auto val="1"/>
        <c:lblAlgn val="ctr"/>
        <c:lblOffset val="100"/>
        <c:noMultiLvlLbl val="0"/>
      </c:catAx>
      <c:valAx>
        <c:axId val="86912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663-709C-4E48-A97B-4EF2EA91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54A-45EB-45A2-87E5-6F1509B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74F-90D1-44ED-9D4F-80AA3283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FAB-0B7A-432D-BE5D-C36EB2CC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5C4-21E5-4AF3-8F83-DE5F6BA9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F1B-19DD-43F4-B684-70FBF07C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591-0159-49B6-90AF-F40E22C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703-0C48-48E9-B177-E0EA99CF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2A2-2A2B-4F41-BD6E-3BA3242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EB6-60EF-4351-AF2D-1959317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CEE-60A8-4FA4-B883-6038A18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9B0-4537-4A3F-95DE-7F6E652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06DDF-7915-4DC6-A32D-B1EB7D3441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